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894956"/>
        <c:axId val="68803589"/>
      </c:barChart>
      <c:catAx>
        <c:axId val="358949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03589"/>
        <c:crosses val="autoZero"/>
        <c:auto val="1"/>
        <c:lblAlgn val="ctr"/>
        <c:lblOffset val="100"/>
        <c:noMultiLvlLbl val="0"/>
      </c:catAx>
      <c:valAx>
        <c:axId val="688035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949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6A6B-EB25-4F0A-B389-E4C61944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6198-30E9-4771-8AA8-7DBBD0C6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387B-E494-4D7D-A8C3-6A3B01D5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3838-DCF2-47A1-B0FB-914C6BCE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5C63-AC8B-4B94-9C68-B6047713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52E5-0DE9-4C6E-818B-029C23C0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73DE-6EE7-4702-B1C3-06403A97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622F-9C54-4582-B826-E28E085A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32C6-4F11-4760-A8C8-80978C09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4232-1E47-4BF9-B75E-ACB874B2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EF5F-ED72-43C9-AEB5-862CC1C3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58AA-D0DC-4AD0-9156-341E7C48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06412-61B1-4F4F-B334-82AD9BA4C5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