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94060"/>
        <c:axId val="10173378"/>
      </c:barChart>
      <c:catAx>
        <c:axId val="36994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3378"/>
        <c:crosses val="autoZero"/>
        <c:auto val="1"/>
        <c:lblAlgn val="ctr"/>
        <c:lblOffset val="100"/>
        <c:noMultiLvlLbl val="0"/>
      </c:catAx>
      <c:valAx>
        <c:axId val="10173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94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2EB-D662-4B78-B8C7-A188828D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277-5CEC-4A6B-921A-327C856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D07-4860-4E2E-ABCC-70CC0E13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420-47CF-40AB-ADB0-51AFA1EF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834-EB13-4B2A-87A3-5EF56B00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A8A-F39A-4ACB-B88B-56D57479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1F1-960D-47CF-B8D5-FEAE4AC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0D6-CA0E-4C6D-B1ED-72E2B58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DDC-24BA-4FE3-B4D3-5F68653E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DC7-4F9C-48B0-B9DB-42C0DCD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74A-7CC0-4D77-9946-64C2741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84D-7356-4044-88C0-A51B5C9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66A8-8011-4AEA-A69E-4C68748773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