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61830"/>
        <c:axId val="26714702"/>
      </c:barChart>
      <c:catAx>
        <c:axId val="85661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14702"/>
        <c:crosses val="autoZero"/>
        <c:auto val="1"/>
        <c:lblAlgn val="ctr"/>
        <c:lblOffset val="100"/>
        <c:noMultiLvlLbl val="0"/>
      </c:catAx>
      <c:valAx>
        <c:axId val="26714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61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1F9-9A49-435B-8CFC-9348F065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FED-4C3A-484A-8473-3F6AC0EF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DF8-824C-4413-B804-E3189E50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6E9-3CB6-4426-9952-B42A48FD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B39-65DA-4F78-AF93-F1DFF485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98D-EF16-4CEA-9DD9-836AD8BE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A7F-280F-4B12-B630-1C6FFD30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E7B-985F-471C-91E8-1C06882F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5E1-D0E0-4A41-8A01-F7A94A4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94C-95C4-47EC-8131-51C2A62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E08-538E-41AD-B549-08D868DF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866-1788-4EE4-8919-2D81CE0B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CDE09-C5D7-405E-9332-C356AF33A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