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6103795"/>
        <c:axId val="74888484"/>
      </c:barChart>
      <c:catAx>
        <c:axId val="3610379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888484"/>
        <c:crosses val="autoZero"/>
        <c:auto val="1"/>
        <c:lblAlgn val="ctr"/>
        <c:lblOffset val="100"/>
        <c:noMultiLvlLbl val="0"/>
      </c:catAx>
      <c:valAx>
        <c:axId val="7488848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10379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FC48-E193-4ED0-AC69-EC665CDC8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C4BF-48C6-467D-893C-17C7D3FB9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FB09-3B74-447B-8E81-10311409D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9188-BFA9-40BD-A3FD-A3FE17C71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9D7D-EF5A-4BD2-AAC9-05BBF21FD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20B6-9F5A-4F33-A7AA-AFF256A3C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077D-C4A0-4FD8-B483-28D978480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C109-CE62-44BD-8150-30E5A89B9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7CE3-6231-430F-B62F-6D57C2E7A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91ED-1731-4205-A450-32286BE72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F7BC-A57E-4635-92A4-FFD4AE020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FE9C-009E-40C3-A47E-333835619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D17653-6FFC-43EC-9CDC-CBFA7475241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