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310996"/>
        <c:axId val="19690926"/>
      </c:barChart>
      <c:catAx>
        <c:axId val="153109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690926"/>
        <c:crosses val="autoZero"/>
        <c:auto val="1"/>
        <c:lblAlgn val="ctr"/>
        <c:lblOffset val="100"/>
        <c:noMultiLvlLbl val="0"/>
      </c:catAx>
      <c:valAx>
        <c:axId val="196909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3109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B8D9-1F7C-47E2-A1D4-4F0C118F3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A33C-65FB-47CD-AA10-30C850C6C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CDF8-C0F5-4AE9-9FA3-D930E149F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0FBC-3EC4-4057-BD58-95E66BF44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71AB-07F0-419B-8E71-7C08CB75E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0A19-8689-40DA-8B79-56FE28B26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35E5-C4FA-4631-ACCF-46E3E8780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FA0B-A51A-4908-850A-FF7866A87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942B-53F2-4B26-945A-0290859F9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BE3B-3AD6-497E-AE3F-6396825AF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42B7-64AC-427F-BE5C-4C0459B5F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305A-AA62-43F9-AE8A-E1C8ECE09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585B88-CBFB-4D95-B561-340FC5E27CD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