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26408"/>
        <c:axId val="82923307"/>
      </c:barChart>
      <c:catAx>
        <c:axId val="28026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23307"/>
        <c:crosses val="autoZero"/>
        <c:auto val="1"/>
        <c:lblAlgn val="ctr"/>
        <c:lblOffset val="100"/>
        <c:noMultiLvlLbl val="0"/>
      </c:catAx>
      <c:valAx>
        <c:axId val="82923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26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BA4-6B25-485E-8CA3-5CE5A644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532-3B27-44F6-B011-D0B0F8BB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72ED-A454-4109-A198-06D217DE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B82B-FD9D-4E67-AF28-F0579E3F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FA6-4EB4-42A0-A233-E4BCA0DB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3E7-2A16-4FC1-BD7F-B302D4D1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985-1612-4BB3-908D-1998ADE8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506-3B16-43DD-8D56-FB06480F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1EB-1D70-49C1-A9BE-7876226C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6AB-833A-47F4-A69E-EBAD9806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A69-87F1-4198-B282-F67D78CA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CDC-0333-484D-8816-0A41C465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B1D2B-DCC0-47CA-927F-E493676B58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