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10351"/>
        <c:axId val="68866621"/>
      </c:barChart>
      <c:catAx>
        <c:axId val="37310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66621"/>
        <c:crosses val="autoZero"/>
        <c:auto val="1"/>
        <c:lblAlgn val="ctr"/>
        <c:lblOffset val="100"/>
        <c:noMultiLvlLbl val="0"/>
      </c:catAx>
      <c:valAx>
        <c:axId val="688666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10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0926-A1B7-451A-980F-6AE68804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E8FB-A3AA-4448-ABCB-5D6026BF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12A2-0640-4AD0-8575-2D96ABE2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E40-DE3D-4558-82E4-8D6F160E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B27-DCB8-4E07-BF1B-20DD1360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539-F908-44BD-AE13-889D39BD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D49-7FC3-4E2B-A99F-E319F076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03D-2399-4770-B210-109577A3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FA8-261F-4374-8CFF-9B4A59E1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C7C7-0106-47C2-8737-41A5A982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0354-0A41-4FE5-8C2C-DF2B92B9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DC5-5DC9-4B54-86C3-63A0D8C2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37A33-20B5-43AB-9F4E-C96AF7B9FC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