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78040"/>
        <c:axId val="42587991"/>
      </c:barChart>
      <c:catAx>
        <c:axId val="78078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87991"/>
        <c:crosses val="autoZero"/>
        <c:auto val="1"/>
        <c:lblAlgn val="ctr"/>
        <c:lblOffset val="100"/>
        <c:noMultiLvlLbl val="0"/>
      </c:catAx>
      <c:valAx>
        <c:axId val="42587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78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468-DF23-4BCE-A26A-D0945364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CE6-46EF-40C9-B639-3C710BFF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68B-5B88-460E-84F8-A50CCF2C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D1F-91EC-4903-A0BB-38E60687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8B4-509C-4C5D-B154-FF80D22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DD2-4851-4CC3-9BEA-EAA47390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4EB-6766-4D71-BA61-4D139E4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95A-AF38-4C2B-8E5B-E6CA60C0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4B7-3FEA-468C-A40E-17D6E09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58B-AFEB-4FBA-A61C-447FFF4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8D4-3F51-4D31-9E79-3D58E678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903-DF56-4E74-8094-CD47C26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6EECD-BFE5-48A4-B193-C39D931977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