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47019"/>
        <c:axId val="88372298"/>
      </c:barChart>
      <c:catAx>
        <c:axId val="58147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72298"/>
        <c:crosses val="autoZero"/>
        <c:auto val="1"/>
        <c:lblAlgn val="ctr"/>
        <c:lblOffset val="100"/>
        <c:noMultiLvlLbl val="0"/>
      </c:catAx>
      <c:valAx>
        <c:axId val="88372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47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A67-F176-4C9F-8BF2-BFCE90DA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21B-53B8-4ED0-9F5D-DED131C0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1D4-F6A6-4B46-894F-ACA00FBA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8B7-08AA-4E08-B351-FF5539FF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4B5-3988-457F-BC6C-3F98FEFB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3B9-F25B-43DF-9816-69753E3B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5B7-D1A7-4875-A80B-E07A40FD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5CB-1B2F-4A94-AE5A-B4D918FB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44F-CD6A-44F3-90E4-D980ADFC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C93-ACF4-4451-BC85-32E940DC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D91-8146-4AD1-A10A-B363A27E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37B-49ED-468C-B829-829F83A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B95FC-E600-44DF-9549-FE4655424D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