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87790"/>
        <c:axId val="88700753"/>
      </c:barChart>
      <c:catAx>
        <c:axId val="40887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0753"/>
        <c:crosses val="autoZero"/>
        <c:auto val="1"/>
        <c:lblAlgn val="ctr"/>
        <c:lblOffset val="100"/>
        <c:noMultiLvlLbl val="0"/>
      </c:catAx>
      <c:valAx>
        <c:axId val="88700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7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B74-4469-4472-8C10-9CAA2A95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2EC-EBD8-42AB-845E-404AEB9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FD1-CCF3-4719-B4D3-D5EC08A6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CF2-C9CB-421C-B194-1CA33F2E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66E-2C8A-450A-9C5F-4B77026D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C0B-FE3F-40A0-BA86-47753352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FFA-20ED-4D6D-B876-9269E50D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124-2D76-42B6-8733-AB9026CA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87A-BF90-40D4-96B6-A0955261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2EE-7C03-4DEA-8F8F-4C0D0B9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4C7-E925-4F33-8056-D426FEB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5F8-9359-474C-81AF-AEABA3D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20744-8A3C-4807-8D69-9D79D3E17A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